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A7341-3D56-456B-818A-BC7AE07D4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toy totalmente de acuerd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2959E-9A0B-4A93-AF4B-20A7D99E2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B0713-0F9A-4C95-BA5A-D7E29B8D8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480CB-34B1-4C49-9A93-421C8DDD4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39E9E-5AAA-4187-B12D-C3B06142C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0C66F-F05C-4F66-BFE9-1FA693047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8DAD1-CB5F-4D7F-98A3-486F8704C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7BE28-7356-46E1-B8E3-7554894B4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40C1-B0BD-460F-98F4-C1D9A42EB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AB49-7B92-4FD5-9A1E-B67F9F5DF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5CC0-6E68-40F1-B19C-B1EA674E5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4CE0-6069-4838-8B77-20F357F0F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3160-9449-4EF8-9694-C514F5453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3105-4C50-4335-8822-A4130224F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3471-6A27-4A67-811B-818C0AA3A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8DA5-F982-483F-A2F5-2A47DA2EE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75AE-2C2E-4D95-9FC4-6E2FA3BE2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3842-5871-44CB-857F-E9DA1109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79BE-8FC0-4901-BB8E-416EA82C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9BD3-DAD0-4138-B1DD-6194C0E8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08F8D-6D62-441F-AF78-8A7F75AB3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iaasm.org/FullMadridProgramwithAbstracts.pdf" TargetMode="External"/><Relationship Id="rId2" Type="http://schemas.openxmlformats.org/officeDocument/2006/relationships/hyperlink" Target="http://www.iaasm.org/FullMadridProgramwithAbstracts.pdf" TargetMode="External"/><Relationship Id="rId3" Type="http://schemas.openxmlformats.org/officeDocument/2006/relationships/hyperlink" Target="http://www.iaasm.org/FullMadridProgramwithAbstracts.pdf" TargetMode="External"/><Relationship Id="rId4" Type="http://schemas.openxmlformats.org/officeDocument/2006/relationships/hyperlink" Target="http://www.iaasm.org/FullMadridProgramwithAbstracts.pdf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fomento.es/NR/rdonlyres/2885E1B3-BCE3-4538-BE33-1F3D736667C6/41384/InformeULM2007.pdf accessed Aug 7,2009" TargetMode="External"/><Relationship Id="rId2" Type="http://schemas.openxmlformats.org/officeDocument/2006/relationships/hyperlink" Target="http://www.fomento.es/NR/rdonlyres/2885E1B3-BCE3-4538-BE33-1F3D736667C6/41384/InformeULM2007.pdf accessed Aug 7,2009" TargetMode="External"/><Relationship Id="rId3" Type="http://schemas.openxmlformats.org/officeDocument/2006/relationships/hyperlink" Target="http://www.fomento.es/NR/rdonlyres/2885E1B3-BCE3-4538-BE33-1F3D736667C6/41384/InformeULM2007.pdf accessed Aug 7,2009" TargetMode="External"/><Relationship Id="rId4" Type="http://schemas.openxmlformats.org/officeDocument/2006/relationships/hyperlink" Target="http://www.fomento.es/NR/rdonlyres/2885E1B3-BCE3-4538-BE33-1F3D736667C6/41384/InformeULM2007.pdf accessed Aug 7,2009" TargetMode="External"/><Relationship Id="rId5" Type="http://schemas.openxmlformats.org/officeDocument/2006/relationships/hyperlink" Target="http://www.fomento.es/NR/rdonlyres/2885E1B3-BCE3-4538-BE33-1F3D736667C6/41384/InformeULM2007.pdf accessed Aug 7,2009" TargetMode="External"/><Relationship Id="rId6" Type="http://schemas.openxmlformats.org/officeDocument/2006/relationships/hyperlink" Target="http://www.fomento.es/NR/rdonlyres/2885E1B3-BCE3-4538-BE33-1F3D736667C6/41384/InformeULM2007.pdf accessed Aug 7,2009" TargetMode="External"/><Relationship Id="rId7" Type="http://schemas.openxmlformats.org/officeDocument/2006/relationships/hyperlink" Target="http://www.fomento.es/NR/rdonlyres/2885E1B3-BCE3-4538-BE33-1F3D736667C6/41384/InformeULM2007.pdf accessed Aug 7,2009" TargetMode="External"/><Relationship Id="rId8" Type="http://schemas.openxmlformats.org/officeDocument/2006/relationships/hyperlink" Target="http://www.fomento.es/NR/rdonlyres/2885E1B3-BCE3-4538-BE33-1F3D736667C6/41384/InformeULM2007.pdf accessed Aug 7,2009" TargetMode="External"/><Relationship Id="rId9" Type="http://schemas.openxmlformats.org/officeDocument/2006/relationships/hyperlink" Target="http://www.fomento.es/NR/rdonlyres/2885E1B3-BCE3-4538-BE33-1F3D736667C6/41384/InformeULM2007.pdf accessed Aug 7,2009" TargetMode="External"/><Relationship Id="rId10" Type="http://schemas.openxmlformats.org/officeDocument/2006/relationships/hyperlink" Target="http://www.fomento.es/NR/rdonlyres/2885E1B3-BCE3-4538-BE33-1F3D736667C6/41384/InformeULM2007.pdf accessed Aug 7,2009" TargetMode="External"/><Relationship Id="rId11" Type="http://schemas.openxmlformats.org/officeDocument/2006/relationships/hyperlink" Target="http://www.fomento.es/NR/rdonlyres/2885E1B3-BCE3-4538-BE33-1F3D736667C6/41384/InformeULM2007.pdf accessed Aug 7,2009" TargetMode="External"/><Relationship Id="rId12" Type="http://schemas.openxmlformats.org/officeDocument/2006/relationships/hyperlink" Target="http://www.fomento.es/NR/rdonlyres/2885E1B3-BCE3-4538-BE33-1F3D736667C6/41384/InformeULM2007.pdf accessed Aug 7,2009" TargetMode="External"/><Relationship Id="rId13" Type="http://schemas.openxmlformats.org/officeDocument/2006/relationships/hyperlink" Target="http://www.fomento.es/NR/rdonlyres/2885E1B3-BCE3-4538-BE33-1F3D736667C6/41384/InformeULM2007.pdf accessed Aug 7,2009" TargetMode="External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557360"/>
            <a:ext cx="52560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paring ULM </a:t>
            </a:r>
            <a:br>
              <a:rPr sz="32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(Microlight)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gulation and accidentology in two EU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000" y="4797000"/>
            <a:ext cx="39589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 Ortiz M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pain Delegate FAI-CI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AI-CIMP Conference Zagreb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6134040" y="476280"/>
            <a:ext cx="2470320" cy="576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s it seems to be the case in Gliding*, the level of medical requirements for the pilots seems not to correlate with the achieved safety in UL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he raw data to gain evidence exist and are nowadays easier to obtain, but they are difficult to process statistically due to the differences in accident reporting and analys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t is suggested to perform analysis from the descriptions / basic data and not from the interpretations of the different national bod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324000" y="6237360"/>
            <a:ext cx="842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*Ortiz P, Panel 19 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Air Sports Medicine Médecine des sports aériens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 ICASM Madrid 2001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iaasm.org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FullMadridProgramwithAbstracts.pdf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 accessed Aug 7,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19890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Arial"/>
              </a:rPr>
              <a:t>Thanks !</a:t>
            </a:r>
            <a:br>
              <a:rPr sz="5400"/>
            </a:br>
            <a:br>
              <a:rPr sz="5400"/>
            </a:br>
            <a:r>
              <a:rPr b="1" lang="es-ES" sz="5400" spc="-1" strike="noStrike">
                <a:solidFill>
                  <a:srgbClr val="ffffff"/>
                </a:solidFill>
                <a:latin typeface="Arial"/>
              </a:rPr>
              <a:t>Hvala 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LM Medical Regulations in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324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port license requires an initial medical certificate stating absence o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Weight – height defici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ardiovascular illnesses causing alteration of left ejection fraction and/or rythm at effort or at reco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volutionary pleuro pulmonary le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evere morphological static and/or dynamic alterations, particularly in dorso-lumbar vertebral column with risk of acute pathology or accelerated we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pilepsy, loss of consciousness, vertigo, equilibrium alt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Regul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- Law 99-223, 23 march 1999, Art. 5 on health of sport and fight against do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- Code de Santé Publique (Art. L.3622-1)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395280" y="5084640"/>
            <a:ext cx="8209080" cy="1321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It is not an aviation medical examination: all doctors can perform 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The Federation Drs will make a decision on the cases were a pathology is present and the candidate asks for revi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LM Medical Regulations in S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2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JAA FCL Class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Regul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DGAC, Orden ORDEN FOM/1267/2008 de 28 de abril (BOE 110, 6 May 2008)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395280" y="5084640"/>
            <a:ext cx="8352000" cy="707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It is an aviation medical examination: only authrised AMEs can perform 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The Federation Drs have no official role to 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ULM Acci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1979640" y="1773360"/>
            <a:ext cx="5273640" cy="392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uses of ULM accidents Spain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403280" y="1557360"/>
          <a:ext cx="4753080" cy="3881520"/>
        </p:xfrm>
        <a:graphic>
          <a:graphicData uri="http://schemas.openxmlformats.org/drawingml/2006/table">
            <a:tbl>
              <a:tblPr/>
              <a:tblGrid>
                <a:gridCol w="4227480"/>
                <a:gridCol w="525600"/>
              </a:tblGrid>
              <a:tr h="703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Ope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psychological (stress, excess of confidenc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s / Unkn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vironment meteorolog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chnical: systems failure/disfunctionning including poor mainten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Rectangle 249"/>
          <p:cNvSpPr/>
          <p:nvPr/>
        </p:nvSpPr>
        <p:spPr>
          <a:xfrm>
            <a:off x="468360" y="5805360"/>
            <a:ext cx="828036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Adapted from : Min Fomento CIAIAC: Accidentalidad de ULM en España durante el año 2007 CIAIC ULM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http://www.fomento.es/NR/rdonlyres/2885E1B3-BCE3-4538-BE33-1F3D736667C6/41384/InformeULM2007.pdf accessed Aug 7,2009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77"/>
          <p:cNvSpPr/>
          <p:nvPr/>
        </p:nvSpPr>
        <p:spPr>
          <a:xfrm>
            <a:off x="7236000" y="2205000"/>
            <a:ext cx="1512720" cy="28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8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79"/>
          <p:cNvSpPr/>
          <p:nvPr/>
        </p:nvSpPr>
        <p:spPr>
          <a:xfrm>
            <a:off x="6156360" y="3213000"/>
            <a:ext cx="72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80"/>
          <p:cNvSpPr/>
          <p:nvPr/>
        </p:nvSpPr>
        <p:spPr>
          <a:xfrm>
            <a:off x="6156360" y="2637000"/>
            <a:ext cx="72072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82"/>
          <p:cNvSpPr/>
          <p:nvPr/>
        </p:nvSpPr>
        <p:spPr>
          <a:xfrm flipV="1">
            <a:off x="6156360" y="4941720"/>
            <a:ext cx="792000" cy="216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285"/>
          <p:cNvSpPr/>
          <p:nvPr/>
        </p:nvSpPr>
        <p:spPr>
          <a:xfrm>
            <a:off x="6227640" y="5157720"/>
            <a:ext cx="36036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286"/>
          <p:cNvSpPr/>
          <p:nvPr/>
        </p:nvSpPr>
        <p:spPr>
          <a:xfrm>
            <a:off x="6227640" y="3924360"/>
            <a:ext cx="36036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87"/>
          <p:cNvSpPr/>
          <p:nvPr/>
        </p:nvSpPr>
        <p:spPr>
          <a:xfrm>
            <a:off x="6156360" y="3860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88"/>
          <p:cNvSpPr/>
          <p:nvPr/>
        </p:nvSpPr>
        <p:spPr>
          <a:xfrm flipV="1">
            <a:off x="6156360" y="4436640"/>
            <a:ext cx="287280" cy="7164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uses of ULM accidents France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268360" y="1197000"/>
          <a:ext cx="3672000" cy="3508200"/>
        </p:xfrm>
        <a:graphic>
          <a:graphicData uri="http://schemas.openxmlformats.org/drawingml/2006/table">
            <a:tbl>
              <a:tblPr/>
              <a:tblGrid>
                <a:gridCol w="2846520"/>
                <a:gridCol w="82548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behaviour, dec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skills fail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med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vironment external cau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chn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45"/>
          <p:cNvSpPr/>
          <p:nvPr/>
        </p:nvSpPr>
        <p:spPr>
          <a:xfrm>
            <a:off x="6948360" y="1773360"/>
            <a:ext cx="1513080" cy="28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52"/>
          <p:cNvSpPr/>
          <p:nvPr/>
        </p:nvSpPr>
        <p:spPr>
          <a:xfrm>
            <a:off x="5940360" y="1844640"/>
            <a:ext cx="72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53"/>
          <p:cNvSpPr/>
          <p:nvPr/>
        </p:nvSpPr>
        <p:spPr>
          <a:xfrm>
            <a:off x="5940360" y="3141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54"/>
          <p:cNvSpPr/>
          <p:nvPr/>
        </p:nvSpPr>
        <p:spPr>
          <a:xfrm>
            <a:off x="5940360" y="234936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55"/>
          <p:cNvSpPr/>
          <p:nvPr/>
        </p:nvSpPr>
        <p:spPr>
          <a:xfrm flipV="1">
            <a:off x="5940360" y="3715920"/>
            <a:ext cx="287280" cy="7308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94"/>
          <p:cNvSpPr/>
          <p:nvPr/>
        </p:nvSpPr>
        <p:spPr>
          <a:xfrm>
            <a:off x="250920" y="6010200"/>
            <a:ext cx="871380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Adapted from: FFPULM  Mémo Sécurité du pilote ULM Ed. 10/2008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http://www.ffplum.com/Images/Upload/Securite/Annee%202008/MEMO%20SECURITE%202008_.pdf accessed Aug7, 2009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95"/>
          <p:cNvSpPr/>
          <p:nvPr/>
        </p:nvSpPr>
        <p:spPr>
          <a:xfrm flipV="1">
            <a:off x="5940360" y="4365720"/>
            <a:ext cx="287280" cy="7128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LM Acc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519120" y="981000"/>
          <a:ext cx="8229600" cy="335448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14240"/>
                <a:gridCol w="1622520"/>
                <a:gridCol w="1700280"/>
              </a:tblGrid>
              <a:tr h="1168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mber of registered ULM aircrafts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ified accid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Rectangle 535"/>
          <p:cNvSpPr/>
          <p:nvPr/>
        </p:nvSpPr>
        <p:spPr>
          <a:xfrm>
            <a:off x="395280" y="4797360"/>
            <a:ext cx="842472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Spain: Min Fomento CIAIAC: Accidentalidad de ULM en España durante el año 2007 CIAIC U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omento.es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NR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rdonlyres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2885E1B3-BCE3-4538-BE33-1F3D736667C6/41384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InformeULM2007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.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pdf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accessed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Aug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 7,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France: Bureau Enquètes et Analyses  / http://www.bea.aero/etudes/securite2007/securite2007.html accessed Aug 7, 2009  and Aviation Civile / Aviation légère / Vol moteur ULM (secteur associatif) / http://www.aviation-civile.gouv.fr/html/avia_leg/statistiques/oac_stat2007_ulm.pdf accessed Aug 7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Accident / Aircraft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403280" y="1557360"/>
          <a:ext cx="6264360" cy="4032360"/>
        </p:xfrm>
        <a:graphic>
          <a:graphicData uri="http://schemas.openxmlformats.org/drawingml/2006/table">
            <a:tbl>
              <a:tblPr/>
              <a:tblGrid>
                <a:gridCol w="2089080"/>
                <a:gridCol w="2086200"/>
                <a:gridCol w="2089080"/>
              </a:tblGrid>
              <a:tr h="743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cident / Aircraft Rat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4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52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4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52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42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1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7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15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fa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22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fa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8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faf"/>
                    </a:solidFill>
                  </a:tcPr>
                </a:tc>
              </a:tr>
              <a:tr h="352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F 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9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hough the limitations in the methodology and statistical approach, it seems that different regulatory approaches only result in number of participants and not in the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viation authorities apply different analysis methodologies in EU; Eventually EASA might bring a  coordinated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7T09:33:19Z</dcterms:created>
  <dc:creator>PEDRO.ORTIZ</dc:creator>
  <dc:description/>
  <dc:language>en-US</dc:language>
  <cp:lastModifiedBy>Fustis</cp:lastModifiedBy>
  <dcterms:modified xsi:type="dcterms:W3CDTF">2014-05-03T11:11:36Z</dcterms:modified>
  <cp:revision>47</cp:revision>
  <dc:subject/>
  <dc:title>Thoughts on ULM regulation and accidentology </dc:title>
</cp:coreProperties>
</file>