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902D-F493-4BAB-90AA-6AA989657B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A77C-6214-4AF7-AB1B-5979130206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773E3-47B8-4991-AD78-A7653025D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68DFA-1B23-4AEC-A3D7-D2C4B822B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6EF70-69DD-47E0-9CAD-17C5FF06F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0AA3C-592C-4DB1-804B-666A85B15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8E29-63AB-4BDF-9FE7-F3D3624AA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4145A-4D73-4DB4-8E36-9948BD7B4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07CD2-3AEA-4E5C-B833-DB7A41FDD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7B2E1-AC04-43A1-85E9-2167A5B43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F1D39-34DC-42FC-8448-F76541EB6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9941E-7051-4A36-AC70-FAB4E3BDF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00B1-080A-49D7-B540-39D21EC5E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5802-465A-4FBF-A915-7214A0B76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D7EC-BEFB-41ED-821B-3B8D50776C5C}"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9B3A-0581-460E-8F48-E0949094AEB2}"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FC8BC7EF-93FF-4ED6-813E-6B7C24685D1F}" type="datetime">
              <a:rPr b="1" lang="fr-FR" sz="1200" spc="-1" strike="noStrike">
                <a:solidFill>
                  <a:srgbClr val="000000"/>
                </a:solidFill>
                <a:latin typeface="Arial"/>
              </a:rPr>
              <a:t>29/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