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3B3CF-4BEF-495A-A1D0-2064EE507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FB351-321B-4AB4-A9C1-DB44D78D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30670-8A54-4D29-8426-0A871092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AAEB5-4539-4BDF-9626-D6F08D32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07AE2-37F4-4E4C-853D-BE428D50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85810-DFB4-42A4-A972-11D35ECE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97D7D-B84F-4CAE-85E0-A3266D78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7CF9B-67EC-4861-AE49-C1D47AEF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06B1C-DF9F-4B18-B708-D5FC1AE9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85B53-D248-4F64-B2CD-2A5D7273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B8F46-E8BE-4851-8EC9-BF430ADC7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67153-748E-4A98-BCF3-6374DF5C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4A4DD1-7EA5-4C69-B7EC-F275CFC38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7CCA71-6459-4482-A277-9C9E54FB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5C820F-9ED5-4D03-9F89-46FB2A88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5F16CB-DA4D-41AD-BE6C-9AFEEAB2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98176D-C4D6-44DF-9FDB-7381BE1B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67E544-FCC6-4447-97C6-5F6A7626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B12711-A4A0-490E-AE79-CEBAAD1A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8F7009-C37D-491A-8601-7C13A950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1F37A1-276B-4D9A-BD4B-A52276F3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7AEA3F-CACD-45CB-925C-9D389F4E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AEBC95-B283-4B69-B10E-C2E807DEA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0B00F7-7470-48CD-A666-E92018A1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D5CEBC-173A-41B2-87A1-44ACC01A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153871-98E9-4A69-9B09-A5A2AD0F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7C8C9D-51AF-4C41-B0D7-3E19F129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A30EFE-A85B-4EA8-AE25-1A324AC3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EA4D2C-2774-4452-96A3-2D4DFFC6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B74807-C032-4C69-8437-B41A7171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73CEEB-1B8E-4128-AC6B-7EF715C7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1CEA0C-A29F-4D21-ABB3-284C31D3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24BE2B-2123-49C0-841E-61EB2D99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E74AFA-D1E0-4749-AA9B-9D05DAF8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C5153E-4E7C-4B47-8B68-568BE857D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5473B8-06A8-49A1-A3B1-61E491B7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5093A1-EF8D-4294-A2BC-E54531DB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548DEA-D72F-467B-8DF4-01E442AB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3E9875-48A7-4412-B6D7-9165637C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ADF740-DE59-4D16-AF26-C09663D6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8D11AC-C77B-4EC0-A725-42174DCC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19D56D-96C1-4DD4-93C4-BF1ECDAC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7F6D06-65C6-4E4C-BA58-0895AD21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016797-4DC9-4A07-9485-040DA551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885A7D-27B9-47F4-A589-FE3A2311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1C7C38-F1B1-42CE-8617-C7FD8769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38DBF9-DD38-473B-B100-5BBAE043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8FFF3F-E359-44CC-9AE6-51BC5330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0E2A-79B8-4F32-96B6-23EACD23380F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5FDD-0EFF-4CF8-B6DA-03AD279C134D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FA52-D8DD-4C0B-8F2D-51D937D66CB4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7F50-B41F-466D-85BC-4185A37C89EF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0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7C8B-D791-46F8-A135-5153D45D2CD5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7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0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1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2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3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4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886D-3D85-4CE8-A898-64A2803CDBCF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59EB-04BC-42EA-A5CF-DEB84A797FA1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DFF7-8D2A-4AB5-85BD-FB9429CE6B79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8004-4350-4266-82F1-276859E629A5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58AA-E1DF-45F6-A35C-5F9EBAFFD03E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1894-2FFC-4B4D-BAEC-D9AEF9B32F04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0353-BA09-4B6B-B129-F468E3C0757B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inancing Op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5219640" y="256536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826920" y="256392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spons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471636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xternal inv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6948360" y="4724280"/>
            <a:ext cx="2016360" cy="1224000"/>
          </a:xfrm>
          <a:prstGeom prst="rect">
            <a:avLst/>
          </a:prstGeom>
          <a:solidFill>
            <a:srgbClr val="e076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tern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FAI/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NA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event organiz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2411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a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79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AutoShape 9"/>
          <p:cNvCxnSpPr>
            <a:stCxn id="390" idx="2"/>
            <a:endCxn id="394" idx="0"/>
          </p:cNvCxnSpPr>
          <p:nvPr/>
        </p:nvCxnSpPr>
        <p:spPr>
          <a:xfrm rot="5400000">
            <a:off x="1258920" y="3572640"/>
            <a:ext cx="1080000" cy="1224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6" name="AutoShape 10"/>
          <p:cNvCxnSpPr>
            <a:stCxn id="390" idx="2"/>
            <a:endCxn id="393" idx="0"/>
          </p:cNvCxnSpPr>
          <p:nvPr/>
        </p:nvCxnSpPr>
        <p:spPr>
          <a:xfrm flipH="1" rot="16200000">
            <a:off x="2374560" y="3680280"/>
            <a:ext cx="1080000" cy="1008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7" name="AutoShape 11"/>
          <p:cNvCxnSpPr>
            <a:stCxn id="389" idx="2"/>
            <a:endCxn id="391" idx="0"/>
          </p:cNvCxnSpPr>
          <p:nvPr/>
        </p:nvCxnSpPr>
        <p:spPr>
          <a:xfrm rot="5400000">
            <a:off x="5724720" y="3645360"/>
            <a:ext cx="1078200" cy="108036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8" name="AutoShape 12"/>
          <p:cNvCxnSpPr>
            <a:stCxn id="389" idx="2"/>
            <a:endCxn id="392" idx="0"/>
          </p:cNvCxnSpPr>
          <p:nvPr/>
        </p:nvCxnSpPr>
        <p:spPr>
          <a:xfrm flipH="1" rot="16200000">
            <a:off x="6841440" y="3608640"/>
            <a:ext cx="1078200" cy="115344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9" name="AutoShape 13"/>
          <p:cNvCxnSpPr>
            <a:stCxn id="388" idx="2"/>
            <a:endCxn id="390" idx="0"/>
          </p:cNvCxnSpPr>
          <p:nvPr/>
        </p:nvCxnSpPr>
        <p:spPr>
          <a:xfrm rot="5400000">
            <a:off x="3170880" y="1278000"/>
            <a:ext cx="526320" cy="2046960"/>
          </a:xfrm>
          <a:prstGeom prst="bentConnector3">
            <a:avLst>
              <a:gd name="adj1" fmla="val 49828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0" name="AutoShape 14"/>
          <p:cNvCxnSpPr>
            <a:stCxn id="388" idx="2"/>
            <a:endCxn id="389" idx="0"/>
          </p:cNvCxnSpPr>
          <p:nvPr/>
        </p:nvCxnSpPr>
        <p:spPr>
          <a:xfrm flipH="1" rot="16200000">
            <a:off x="5366520" y="1128600"/>
            <a:ext cx="527760" cy="2346840"/>
          </a:xfrm>
          <a:prstGeom prst="bentConnector3">
            <a:avLst>
              <a:gd name="adj1" fmla="val 49965"/>
            </a:avLst>
          </a:prstGeom>
          <a:ln w="1908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6"/>
          <p:cNvSpPr/>
          <p:nvPr/>
        </p:nvSpPr>
        <p:spPr>
          <a:xfrm>
            <a:off x="2627280" y="2565360"/>
            <a:ext cx="1008000" cy="422280"/>
          </a:xfrm>
          <a:prstGeom prst="rightArrow">
            <a:avLst>
              <a:gd name="adj1" fmla="val 56463"/>
              <a:gd name="adj2" fmla="val 6691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1"/>
          <p:cNvSpPr/>
          <p:nvPr/>
        </p:nvSpPr>
        <p:spPr>
          <a:xfrm>
            <a:off x="2627280" y="380052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2"/>
          <p:cNvSpPr/>
          <p:nvPr/>
        </p:nvSpPr>
        <p:spPr>
          <a:xfrm rot="10800000">
            <a:off x="2627280" y="40640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3"/>
          <p:cNvSpPr/>
          <p:nvPr/>
        </p:nvSpPr>
        <p:spPr>
          <a:xfrm>
            <a:off x="2627280" y="487980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b170"/>
          </a:solidFill>
          <a:ln w="2556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4"/>
          <p:cNvSpPr/>
          <p:nvPr/>
        </p:nvSpPr>
        <p:spPr>
          <a:xfrm rot="10800000">
            <a:off x="2627280" y="5143320"/>
            <a:ext cx="1008000" cy="301320"/>
          </a:xfrm>
          <a:prstGeom prst="rightArrow">
            <a:avLst>
              <a:gd name="adj1" fmla="val 40093"/>
              <a:gd name="adj2" fmla="val 93776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9"/>
          <p:cNvSpPr/>
          <p:nvPr/>
        </p:nvSpPr>
        <p:spPr>
          <a:xfrm>
            <a:off x="5580000" y="22874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0"/>
          <p:cNvSpPr/>
          <p:nvPr/>
        </p:nvSpPr>
        <p:spPr>
          <a:xfrm rot="10800000">
            <a:off x="5580000" y="255096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24"/>
          <p:cNvGrpSpPr/>
          <p:nvPr/>
        </p:nvGrpSpPr>
        <p:grpSpPr>
          <a:xfrm>
            <a:off x="5580000" y="3530520"/>
            <a:ext cx="1008000" cy="545400"/>
            <a:chOff x="5580000" y="3530520"/>
            <a:chExt cx="1008000" cy="545400"/>
          </a:xfrm>
        </p:grpSpPr>
        <p:sp>
          <p:nvSpPr>
            <p:cNvPr id="409" name="AutoShape 25"/>
            <p:cNvSpPr/>
            <p:nvPr/>
          </p:nvSpPr>
          <p:spPr>
            <a:xfrm>
              <a:off x="5580000" y="353052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26"/>
            <p:cNvSpPr/>
            <p:nvPr/>
          </p:nvSpPr>
          <p:spPr>
            <a:xfrm rot="10800000">
              <a:off x="5580000" y="37731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27"/>
          <p:cNvGrpSpPr/>
          <p:nvPr/>
        </p:nvGrpSpPr>
        <p:grpSpPr>
          <a:xfrm>
            <a:off x="5580000" y="4797360"/>
            <a:ext cx="1008000" cy="545400"/>
            <a:chOff x="5580000" y="4797360"/>
            <a:chExt cx="1008000" cy="545400"/>
          </a:xfrm>
        </p:grpSpPr>
        <p:sp>
          <p:nvSpPr>
            <p:cNvPr id="412" name="AutoShape 28"/>
            <p:cNvSpPr/>
            <p:nvPr/>
          </p:nvSpPr>
          <p:spPr>
            <a:xfrm>
              <a:off x="5580000" y="47973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9"/>
            <p:cNvSpPr/>
            <p:nvPr/>
          </p:nvSpPr>
          <p:spPr>
            <a:xfrm rot="10800000">
              <a:off x="5580000" y="504000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Business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 rot="16200000">
            <a:off x="3600360" y="3537000"/>
            <a:ext cx="3456000" cy="503280"/>
          </a:xfrm>
          <a:prstGeom prst="rect">
            <a:avLst/>
          </a:prstGeom>
          <a:solidFill>
            <a:srgbClr val="8da4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rofessional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 rot="16200000">
            <a:off x="2627280" y="3068640"/>
            <a:ext cx="3457440" cy="144144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FAI/CIA ow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6588000" y="206064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7"/>
          <p:cNvSpPr/>
          <p:nvPr/>
        </p:nvSpPr>
        <p:spPr>
          <a:xfrm>
            <a:off x="826920" y="5805360"/>
            <a:ext cx="7632720" cy="0"/>
          </a:xfrm>
          <a:prstGeom prst="line">
            <a:avLst/>
          </a:prstGeom>
          <a:ln w="316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900000" y="2060640"/>
            <a:ext cx="1727280" cy="13302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AI/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0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900000" y="479124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1951200" y="5967360"/>
            <a:ext cx="155232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ree 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1"/>
          <p:cNvSpPr/>
          <p:nvPr/>
        </p:nvSpPr>
        <p:spPr>
          <a:xfrm>
            <a:off x="900000" y="371160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2"/>
          <p:cNvSpPr/>
          <p:nvPr/>
        </p:nvSpPr>
        <p:spPr>
          <a:xfrm>
            <a:off x="6588000" y="332748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3"/>
          <p:cNvSpPr/>
          <p:nvPr/>
        </p:nvSpPr>
        <p:spPr>
          <a:xfrm>
            <a:off x="6588000" y="4549680"/>
            <a:ext cx="1800360" cy="9669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0"/>
          <p:cNvSpPr/>
          <p:nvPr/>
        </p:nvSpPr>
        <p:spPr>
          <a:xfrm>
            <a:off x="7313760" y="5983200"/>
            <a:ext cx="1008000" cy="327240"/>
          </a:xfrm>
          <a:prstGeom prst="rightArrow">
            <a:avLst>
              <a:gd name="adj1" fmla="val 40093"/>
              <a:gd name="adj2" fmla="val 86348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31"/>
          <p:cNvSpPr/>
          <p:nvPr/>
        </p:nvSpPr>
        <p:spPr>
          <a:xfrm rot="10800000">
            <a:off x="7242120" y="626220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2"/>
          <p:cNvSpPr/>
          <p:nvPr/>
        </p:nvSpPr>
        <p:spPr>
          <a:xfrm>
            <a:off x="5883120" y="5950080"/>
            <a:ext cx="141516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rents 30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4"/>
          <p:cNvSpPr/>
          <p:nvPr/>
        </p:nvSpPr>
        <p:spPr>
          <a:xfrm>
            <a:off x="678960" y="1722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contrib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5"/>
          <p:cNvSpPr/>
          <p:nvPr/>
        </p:nvSpPr>
        <p:spPr>
          <a:xfrm>
            <a:off x="7734600" y="1722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6"/>
          <p:cNvSpPr/>
          <p:nvPr/>
        </p:nvSpPr>
        <p:spPr>
          <a:xfrm>
            <a:off x="977760" y="5975280"/>
            <a:ext cx="1008360" cy="327240"/>
          </a:xfrm>
          <a:prstGeom prst="rightArrow">
            <a:avLst>
              <a:gd name="adj1" fmla="val 40093"/>
              <a:gd name="adj2" fmla="val 86379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7"/>
          <p:cNvSpPr/>
          <p:nvPr/>
        </p:nvSpPr>
        <p:spPr>
          <a:xfrm rot="10800000">
            <a:off x="906480" y="625428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8"/>
          <p:cNvSpPr/>
          <p:nvPr/>
        </p:nvSpPr>
        <p:spPr>
          <a:xfrm rot="16200000">
            <a:off x="168120" y="6103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le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a Contributing NA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14560" y="2998440"/>
            <a:ext cx="7610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Example: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NAC 1 runs nationals with 40 competitors every year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wants to contribute with 20 logger to the device poo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1211400" y="2276640"/>
            <a:ext cx="7464240" cy="696240"/>
            <a:chOff x="1211400" y="2276640"/>
            <a:chExt cx="7464240" cy="696240"/>
          </a:xfrm>
        </p:grpSpPr>
        <p:sp>
          <p:nvSpPr>
            <p:cNvPr id="436" name="Rectangle 6"/>
            <p:cNvSpPr/>
            <p:nvPr/>
          </p:nvSpPr>
          <p:spPr>
            <a:xfrm>
              <a:off x="1258920" y="2323800"/>
              <a:ext cx="7416720" cy="649080"/>
            </a:xfrm>
            <a:prstGeom prst="rect">
              <a:avLst/>
            </a:prstGeom>
            <a:solidFill>
              <a:srgbClr val="4c4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5"/>
            <p:cNvSpPr/>
            <p:nvPr/>
          </p:nvSpPr>
          <p:spPr>
            <a:xfrm>
              <a:off x="1211400" y="2276640"/>
              <a:ext cx="7416720" cy="648720"/>
            </a:xfrm>
            <a:prstGeom prst="rect">
              <a:avLst/>
            </a:prstGeom>
            <a:solidFill>
              <a:srgbClr val="a2c81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800" spc="-1" strike="noStrike">
                  <a:solidFill>
                    <a:srgbClr val="000000"/>
                  </a:solidFill>
                  <a:latin typeface="Century Gothic"/>
                </a:rPr>
                <a:t>contribute to the device pool and get 20 free rent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8" name=""/>
          <p:cNvGraphicFramePr/>
          <p:nvPr/>
        </p:nvGraphicFramePr>
        <p:xfrm>
          <a:off x="1260360" y="4483080"/>
          <a:ext cx="3456000" cy="1614600"/>
        </p:xfrm>
        <a:graphic>
          <a:graphicData uri="http://schemas.openxmlformats.org/drawingml/2006/table">
            <a:tbl>
              <a:tblPr/>
              <a:tblGrid>
                <a:gridCol w="1366920"/>
                <a:gridCol w="649440"/>
                <a:gridCol w="14396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nves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ene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x 20 = 400 free r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logger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53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400 free rent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30 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0‘6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2‘0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  <p:sp>
        <p:nvSpPr>
          <p:cNvPr id="439" name="AutoShape 35"/>
          <p:cNvSpPr/>
          <p:nvPr/>
        </p:nvSpPr>
        <p:spPr>
          <a:xfrm>
            <a:off x="2627280" y="5789520"/>
            <a:ext cx="649440" cy="231840"/>
          </a:xfrm>
          <a:prstGeom prst="leftRightArrow">
            <a:avLst>
              <a:gd name="adj1" fmla="val 50000"/>
              <a:gd name="adj2" fmla="val 55765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1"/>
          <p:cNvSpPr/>
          <p:nvPr/>
        </p:nvSpPr>
        <p:spPr>
          <a:xfrm>
            <a:off x="4932360" y="4365720"/>
            <a:ext cx="38163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use the loggers in the next 10 events for 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play an active role in the balloon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has priority access to the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doesn‘t neet to care about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Professional Hand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responsibilitie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shipp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invoice process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function check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minor mainenance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compensation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by case (directly paid by event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on a yearly basis (minor amount paid by device pool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8960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Century Gothic"/>
              </a:rPr>
              <a:t>profile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company with experience in international shipping / customs handling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referably with link to ballooning commun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already two potential volunteer companies available in EU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FAI/C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Group 20"/>
          <p:cNvGrpSpPr/>
          <p:nvPr/>
        </p:nvGrpSpPr>
        <p:grpSpPr>
          <a:xfrm>
            <a:off x="5219640" y="2457360"/>
            <a:ext cx="3744360" cy="2411640"/>
            <a:chOff x="5219640" y="2457360"/>
            <a:chExt cx="3744360" cy="2411640"/>
          </a:xfrm>
        </p:grpSpPr>
        <p:graphicFrame>
          <p:nvGraphicFramePr>
            <p:cNvPr id="446" name=""/>
            <p:cNvGraphicFramePr/>
            <p:nvPr/>
          </p:nvGraphicFramePr>
          <p:xfrm>
            <a:off x="5219640" y="2560680"/>
            <a:ext cx="3144960" cy="2308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19640" y="2560680"/>
                      <a:ext cx="3144960" cy="23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8" name="Text Box 4"/>
            <p:cNvSpPr/>
            <p:nvPr/>
          </p:nvSpPr>
          <p:spPr>
            <a:xfrm>
              <a:off x="7739280" y="4071960"/>
              <a:ext cx="1224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amort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5"/>
            <p:cNvSpPr/>
            <p:nvPr/>
          </p:nvSpPr>
          <p:spPr>
            <a:xfrm>
              <a:off x="5526360" y="4060800"/>
              <a:ext cx="81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renew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f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"/>
            <p:cNvSpPr/>
            <p:nvPr/>
          </p:nvSpPr>
          <p:spPr>
            <a:xfrm>
              <a:off x="6180480" y="245736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hand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7"/>
            <p:cNvSpPr/>
            <p:nvPr/>
          </p:nvSpPr>
          <p:spPr>
            <a:xfrm>
              <a:off x="5410080" y="277812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maine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6951600" y="2624040"/>
              <a:ext cx="1285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9"/>
            <p:cNvSpPr/>
            <p:nvPr/>
          </p:nvSpPr>
          <p:spPr>
            <a:xfrm>
              <a:off x="6375240" y="3008160"/>
              <a:ext cx="19224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0"/>
          <p:cNvSpPr/>
          <p:nvPr/>
        </p:nvSpPr>
        <p:spPr>
          <a:xfrm>
            <a:off x="1116000" y="2205000"/>
            <a:ext cx="424800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benefits out of 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ealthy and sustainable bussines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igh return on inve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money payback time: 3.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addition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possible future reven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icence fees through selling of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opportunities for partnerships with media and spons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ensure quality, fairness and attractivity of ballooning 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826920" y="5200560"/>
            <a:ext cx="316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7020000" y="2276640"/>
            <a:ext cx="194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use of income</a:t>
            </a:r>
            <a:br>
              <a:rPr sz="1600"/>
            </a:b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ealthy business model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ustainable projec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ositive project for our ballooning spor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fairnes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qual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ermit additional tasks (FON / PDG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lectronic mark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new posibilities for media partnership / sponsorship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uture additional revenue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08:27Z</dcterms:modified>
  <cp:revision>79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